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F955F-F49F-45CF-88CD-636B2238CD94}" type="slidenum">
              <a:rPr b="0" lang="en-C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7EDA9-F966-47A8-88A0-4EB7D9438705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from: https://giantshoulders.wordpress.com/2007/10/23/electron-transport-shuttles-in-the-mitochondria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2F2C9-347A-46B8-80BB-90CF2035AEA2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from: https://giantshoulders.wordpress.com/2007/10/23/electron-transport-shuttles-in-the-mitochondria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95FEE-286C-4E91-8283-53F7DEB19F10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25C91-9639-4E5A-BF82-8448217077FF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C4A34-D220-4ACA-AE30-94983D2D92C4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E5BB6-4A7F-42F8-879D-81AB38C9901B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B49D9-E52E-4999-BEB5-DCFE357BADDE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37F42-C385-410F-9553-B2EEB4C699EE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omplex I - NADH dehydrogenase - ubiquinone - Complex II - Succinate dehydrogenase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omplex III - Cytochrome complex - cytochrome c -  Complex IV - Cytochrome oxidase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schoolworkhelper.net/electron-transport-and-chemiosmosis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from: https://www.boundless.com/biology/textbooks/boundless-biology-textbook/cellular-respiration-7/oxidative-phosphorylation-76/electron-transport-chain-362-11588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9BA4-3C2C-4FC5-AB32-D20A799A10D5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CA" sz="400" spc="-1" strike="noStrike">
                <a:solidFill>
                  <a:srgbClr val="000000"/>
                </a:solidFill>
                <a:latin typeface="Calibri"/>
              </a:rPr>
              <a:t>http://www.depts.ttu.edu/chemistry/Faculty/weber/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4DA73-7E51-496D-A2F9-F6ACF2A8515B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Oxidative phosphoryliation = ATP synthesis that is linked to oxidation of energy-rich molecules by an electron transport cha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7FC7C-8FF2-4ADB-87D4-A0554D3C4F6B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2629-BE27-46C0-9CBB-E0F40FF3E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A6ED-FAF9-4581-B773-C69D6437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AA15-6104-4A7B-BEF2-0F287AE56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122B-89D7-46DE-BAC0-21111251F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1C39-09F1-43B9-8C87-516A5D598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2A70-DE24-4A40-8D6F-D91F71A7C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2BDE-63A0-496D-8CA3-1DA928CB9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20B6-25E1-48F9-9577-B774F419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2BAA-A58E-4662-B3B4-F87C82470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7D81-7657-4069-B663-81C13243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CFAC-8908-49BC-97EF-4B2ACCD0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5031-D5B5-4ACF-9F86-32AA05B2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1934D-E321-4A7C-AF74-160D14B658CD}" type="slidenum">
              <a:rPr b="0" lang="en-CA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vcell.ndsu.edu/animations/etc/movie-flash.htm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erobic Respi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898989"/>
                </a:solidFill>
                <a:latin typeface="Arial"/>
              </a:rPr>
              <a:t>Electron Trans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898989"/>
                </a:solidFill>
                <a:latin typeface="Arial"/>
              </a:rPr>
              <a:t>  </a:t>
            </a:r>
            <a:r>
              <a:rPr b="0" lang="en-CA" sz="3200" spc="-1" strike="noStrike">
                <a:solidFill>
                  <a:srgbClr val="898989"/>
                </a:solidFill>
                <a:latin typeface="Arial"/>
              </a:rPr>
              <a:t>&amp; Oxidative Phosphory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ep adding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D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passes complex I, so less than 10 H+ are pumped acro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1 FADH</a:t>
            </a:r>
            <a:r>
              <a:rPr b="0" lang="en-US" sz="3200" spc="-1" strike="noStrike" baseline="-25000">
                <a:solidFill>
                  <a:srgbClr val="1f497d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sults in a maximum of </a:t>
            </a: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2 AT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DH from glycolysis transfers its electrons into the mitochondrion through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late-aspartate shuttle (to NAD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ycerol-phosphate shuttle (to FAD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late-Aspartate Shut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Content Placeholder 8" descr="malateasp.gif"/>
          <p:cNvPicPr/>
          <p:nvPr/>
        </p:nvPicPr>
        <p:blipFill>
          <a:blip r:embed="rId1"/>
          <a:srcRect l="0" t="-472" r="0" b="-47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lycerol-Phosphate Shut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Content Placeholder 3" descr="session_15_-_oxidative_phosphorylation_-_google_slides_(10)-14C6910620203B4C3DD.png"/>
          <p:cNvPicPr/>
          <p:nvPr/>
        </p:nvPicPr>
        <p:blipFill>
          <a:blip r:embed="rId1"/>
          <a:srcRect l="-18693" t="0" r="-18693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heoretical Energy Y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743040" y="157176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0000"/>
                </a:solidFill>
                <a:uFillTx/>
                <a:latin typeface="Calibri"/>
              </a:rPr>
              <a:t>Glycolysis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ubstrate-level phosphorylation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2 ATP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2 NADH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2 NADH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6 ATP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300" spc="-1" strike="noStrike">
                <a:solidFill>
                  <a:srgbClr val="000000"/>
                </a:solidFill>
                <a:latin typeface="Calibri"/>
              </a:rPr>
              <a:t>( </a:t>
            </a:r>
            <a:r>
              <a:rPr b="0" i="1" lang="en-US" sz="2300" spc="-1" strike="noStrike" u="sng">
                <a:solidFill>
                  <a:srgbClr val="000000"/>
                </a:solidFill>
                <a:uFillTx/>
                <a:latin typeface="Calibri"/>
              </a:rPr>
              <a:t>or</a:t>
            </a:r>
            <a:r>
              <a:rPr b="0" i="1" lang="en-US" sz="23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300" spc="-1" strike="noStrike">
                <a:solidFill>
                  <a:srgbClr val="000000"/>
                </a:solidFill>
                <a:latin typeface="Calibri"/>
              </a:rPr>
              <a:t>2 FADH</a:t>
            </a:r>
            <a:r>
              <a:rPr b="0" i="1" lang="en-US" sz="23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US" sz="23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i="1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300" spc="-1" strike="noStrike">
                <a:solidFill>
                  <a:srgbClr val="000000"/>
                </a:solidFill>
                <a:latin typeface="Calibri"/>
              </a:rPr>
              <a:t>(4 ATP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0000"/>
                </a:solidFill>
                <a:uFillTx/>
                <a:latin typeface="Calibri"/>
              </a:rPr>
              <a:t>Pyruvat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0000"/>
                </a:solidFill>
                <a:uFillTx/>
                <a:latin typeface="Calibri"/>
              </a:rPr>
              <a:t>Oxidation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2 NADH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6 ATP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0000"/>
                </a:solidFill>
                <a:uFillTx/>
                <a:latin typeface="Calibri"/>
              </a:rPr>
              <a:t>Krebs Cycle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ubstrate-level phosphorylation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2 ATP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6 NADH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18 ATP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2 FADH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4 ATP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OTAL: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8 ATP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 (36 AT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nim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80880" y="1371240"/>
            <a:ext cx="8305920" cy="46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&amp; clear animation with narr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ttp://highered.mcgraw-hill.com/sites/0072437316/student_view0/chapter9/animations.html#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llent step-by-step anim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science.smith.edu/departments/Biology/Bio231/etc.htm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dditional Anim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99972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-by-step animation with explana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ttp://www.sp.uconn.edu/~terry/Common/respiration.htm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are interested in the chemical structure of all of the molecules involved, watch this animation seri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johnkyrk.com/mitochondrion.htm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 visit the Khan Academy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lent lesson on the Electron Transport Chai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khanacademy.org/video/electron-transport-chain?playlist=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Uncoup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 u="sng">
                <a:solidFill>
                  <a:srgbClr val="000000"/>
                </a:solidFill>
                <a:uFillTx/>
                <a:latin typeface="Arial"/>
              </a:rPr>
              <a:t>electron transport</a:t>
            </a: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 can be uncoupled from </a:t>
            </a:r>
            <a:r>
              <a:rPr b="0" lang="en-CA" sz="3600" spc="-1" strike="noStrike" u="sng">
                <a:solidFill>
                  <a:srgbClr val="000000"/>
                </a:solidFill>
                <a:uFillTx/>
                <a:latin typeface="Arial"/>
              </a:rPr>
              <a:t>ATP synthesis</a:t>
            </a: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 by uncoupling protei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energy from electron transport is released as </a:t>
            </a:r>
            <a:r>
              <a:rPr b="0" lang="en-CA" sz="3600" spc="-1" strike="noStrike">
                <a:solidFill>
                  <a:srgbClr val="c0504d"/>
                </a:solidFill>
                <a:latin typeface="Arial"/>
              </a:rPr>
              <a:t>heat</a:t>
            </a: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 instead of being used to synthesize AT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ncoupl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hibernating anima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birds that live in cold environ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very young offspr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onopho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cal compounds that form channels across membra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 H+ ions to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k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ross mitochondrial membra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ively uncouples chemiosmosis from electron trans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he Electron Transport Ch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 final stage of aerobic cellular respi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ost of the energy from the original glucose molecule is transferred to AT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n the inner membrane of the mitochondr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 Transport Ch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electron-transport-chain"/>
          <p:cNvPicPr/>
          <p:nvPr/>
        </p:nvPicPr>
        <p:blipFill>
          <a:blip r:embed="rId1"/>
          <a:stretch/>
        </p:blipFill>
        <p:spPr>
          <a:xfrm>
            <a:off x="1679400" y="1600200"/>
            <a:ext cx="5785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ctron Transport Ch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Content Placeholder 5" descr="figure-07-04-01.jpeg"/>
          <p:cNvPicPr/>
          <p:nvPr/>
        </p:nvPicPr>
        <p:blipFill>
          <a:blip r:embed="rId1"/>
          <a:srcRect l="0" t="12757" r="0" b="12757"/>
          <a:stretch/>
        </p:blipFill>
        <p:spPr>
          <a:xfrm>
            <a:off x="324000" y="1268280"/>
            <a:ext cx="842472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 Transport Ch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vcell.ndsu.edu/animations/etc/movie-flash.ht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TP Synthase Comple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7" descr="weber"/>
          <p:cNvPicPr/>
          <p:nvPr/>
        </p:nvPicPr>
        <p:blipFill>
          <a:blip r:embed="rId1"/>
          <a:stretch/>
        </p:blipFill>
        <p:spPr>
          <a:xfrm>
            <a:off x="2368440" y="1523880"/>
            <a:ext cx="4108680" cy="48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Oxidative Phosphory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www.langara.bc.ca/biology/mario/Assets/chemiosmosis.jpg"/>
          <p:cNvPicPr/>
          <p:nvPr/>
        </p:nvPicPr>
        <p:blipFill>
          <a:blip r:embed="rId1"/>
          <a:stretch/>
        </p:blipFill>
        <p:spPr>
          <a:xfrm>
            <a:off x="1523880" y="1676520"/>
            <a:ext cx="614376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P synthase in action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youtube.com/watch?v=3y1dO4nNa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ng it all up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very NADH that is oxidized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10 H+ ions are pumped into the intermembrane sp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-4 H+ ions are needed to flow through ATP synthase to make 1 AT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Arial"/>
              </a:rPr>
              <a:t>1 NAD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sults in a maximum of </a:t>
            </a:r>
            <a:r>
              <a:rPr b="0" lang="en-US" sz="3200" spc="-1" strike="noStrike">
                <a:solidFill>
                  <a:srgbClr val="c0504d"/>
                </a:solidFill>
                <a:latin typeface="Arial"/>
              </a:rPr>
              <a:t>3 AT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5T20:54:35Z</dcterms:created>
  <dc:creator>jen</dc:creator>
  <dc:description/>
  <dc:language>en-US</dc:language>
  <cp:lastModifiedBy>rubina khan</cp:lastModifiedBy>
  <dcterms:modified xsi:type="dcterms:W3CDTF">2017-06-01T14:47:40Z</dcterms:modified>
  <cp:revision>128</cp:revision>
  <dc:subject/>
  <dc:title>Slide 1</dc:title>
</cp:coreProperties>
</file>